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B240-3201-4001-A90F-029415E15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EFF7-A0E0-4C43-AC71-5B0A081D2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E5A3-6BD5-4422-90F3-92DF29E27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F9E7-AB6E-443A-A918-AE9D8C4AD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D67E-351B-4E5E-AD34-DEBFA1BA0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E259-9CE5-43FE-983F-3FC06FA82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C8FD-54DE-418A-A690-EB2D3A974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477-1624-437E-9511-118314DC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5AC-BF44-45DF-B9B5-5B4E2DA4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DA7-1061-400F-8D0E-68A60842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586-D568-4852-82F9-997FE1D4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7F2E-AE89-440E-8678-F6F6BC2E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3D5F-D817-4629-B332-803132FD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0498-5215-4FCD-AAF2-AA17E8B7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4D03-B593-4EF1-96CE-FED92538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D126-A57A-4210-8BCC-B4100753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9D81-CE19-44F3-9501-D8927254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D4AD-3F85-4ADF-BCA8-006F1D79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E0C-3B0C-4517-BAD4-E1A136C6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E903-7621-456D-B56C-8610465A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E4BA-2D5A-499D-8749-1B9F23CC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F9E5-193E-417C-80A2-6A887F3E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1574-5E0F-4BFF-B38A-7C8CF444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A35C-6D83-43D3-A5DC-0F7A7ECB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C302-A29D-40F4-8F45-84E0BFEC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4979E-9291-4D7E-8855-2648DB03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F4C85-0B26-42B8-B3D8-9CFE3B0F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DED5-239D-403B-AF8F-B8C712C4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72FCF-46D5-46FD-ABB5-C871E361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72C-D3B5-431A-8F32-BB2B7A02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3F8D2-232D-4D8E-9B77-4B5768D6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790B-3A1F-416A-937B-A4115638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835B-0D4B-40B3-A120-6C62C382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4AB1-5015-4578-8AE2-AE84FF62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F864A-D997-4030-A03A-ACAD3655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65C7-7318-40D9-9997-7C407DC4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2916A-86E8-4880-A41F-04C36C6E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0081-7219-46FD-ABA3-4BEF541B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90269-7574-4A65-A2F9-B69D6E9C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B5E86-C6CD-4C0B-A48C-DE388404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94B-B7E1-4646-BA94-F762B919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67615-0DC6-408B-8C64-92B6AE23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ED74-5EE7-4A7C-AAC7-10EF60FD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AC4F-5C2E-428A-9D84-E6CDFCA1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7AB3F-275C-4D4C-9860-CDEC0F83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B94F-FB82-4F83-8084-89E7C3FC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DC68B-DCB6-49DC-8B90-4474B66C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A9FFD-88C6-4133-8B11-173B4E84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517C2-60EE-4508-B37F-0F59AD63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88D3C-7908-46E2-BF87-353D4EEA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7B868-4094-4C2B-A2AF-4A8A3C21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321-7661-48EC-83FF-CDFA0258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1E1F4-6C39-40B8-9223-0932943C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9CA98-C32F-4A7A-83A0-5D528F9A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B5203-F63E-46DD-9858-328BBCCC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4ADD-D665-4A89-8ADD-A31E1FE8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BA971-2A8F-4B1D-947B-D18BA39B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A147-D9D5-4BF8-810E-6422B247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9C180-B365-4DC9-B08A-C983957A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EF097-E958-4B7B-B041-844DAC2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A271A-1C58-49F2-A626-A62433E4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169B-34FA-4E57-8C55-900A04AD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FF9-768A-4EE2-91D2-D6378673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A9285-B2BA-4E43-88D7-88CFC503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8D8F8-C544-4225-9EC3-D7D384E6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B57F3-64D8-4AA3-BED8-A6F8043F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42460-5C30-460F-B260-365D81CB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A621B-C78B-4DE2-89AE-8A5D8C77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FDC03-9981-445A-8AD5-98C2471D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902E7-EAC0-4BF4-A399-D2E9734F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76C6C-D8BF-4641-8F28-F1A9CCFC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F6A07-F795-4C64-85F7-EF997D4F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87D0A-84A2-4DAB-A09B-49FAFB1D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28D-6769-4556-BE3C-2D56FD03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ECAD0-47A4-4BE5-9AAA-203EA3AC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94762-0F02-4D2E-8218-D5D0EAD1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8F8D9-1EFA-4C25-9D47-D4B6AA98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F2F-2A61-48C7-8403-AB850B9A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8F0-2943-492B-94D5-EB5092CE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4FA5-A76A-4132-B3AA-01643F9C3F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A6C5-744C-4820-BD18-824B28A38A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D5D9-CF14-4E7A-9B65-66FAF4CFCC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9987-8AC0-45E1-AA0C-CA54611150A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2510-E2BA-4729-8967-BBF867567B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9AFC-7F14-4BFD-80BD-BAA563C930C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slide1.xml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Betsy</cp:lastModifiedBy>
  <dcterms:modified xsi:type="dcterms:W3CDTF">2008-10-22T18:05:25Z</dcterms:modified>
  <cp:revision>107</cp:revision>
  <dc:subject/>
  <dc:title>Online High Schools &amp; the Future of High School Diplomas</dc:title>
</cp:coreProperties>
</file>